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72F-2C06-4D36-AB56-BC3327A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720-24DB-4925-B89A-88340FB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A27-775A-4278-B9DA-E536F25C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A44-417E-4928-B340-0F4DAE3F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217-4D79-41E7-ACC0-786FE60A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0C5A-FA6B-4BC8-9DF9-41C3449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ADA4-ACD8-492F-BD0F-46929C5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1006-3220-42B0-95E6-46994EB7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49DA-34E4-4FD0-84B5-9EC568A6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BEB4-0426-4F1F-985A-3F96BAF5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67E5-440B-4ED8-83C8-954729B5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A10-96B1-438F-95A9-5906DDD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0F5-CFD1-4525-A715-94B4F0B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250E-C111-493D-904B-ED49779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4F5-7E3A-493B-BEB9-EA42CFE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CE7-F020-4C19-8454-F9326C43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0F57-BFEE-46D5-802A-E9CEA07B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15E8-DDB2-4CF4-8267-ECDB50A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9B61-7E54-458C-B3CC-50D0F0E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26A3-11AC-45A7-8B57-F371F47A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5CCF-F0FF-40F6-B011-B8B5242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F808-BCCA-455F-A425-D38835D2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2A4-AAA0-468E-B6C3-D5A586B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B550-540A-4F3B-829C-42A90D8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5CD5-558F-4225-8C7A-360076D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254B-9B69-454E-AB5C-17C5EB8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2259-0FD1-4CC4-A22A-72DB743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D856-E4C3-4449-8311-D4B03CFA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D3AA-DC1B-49A7-88BA-3CC36BB0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42D2-20F3-4675-B9B1-CBA71E4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86B3-D16B-42F6-A850-C0074565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B9B9-12BC-46A4-AB75-5F1A436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FB7E-4A25-4E89-94A9-73E4F47E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A45-0F3E-4D7D-8B26-7A19F4A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D1E4-BF55-4548-8525-654A7A4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1C00-051B-4F74-9820-FC3505D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3D10-FCAD-48DF-AB1A-634357A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D09A-2831-4425-AEF7-44248F78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6798-2727-4F1D-8A59-D75A09A9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AB71-5E2A-4C80-AA17-C90AEF3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6B9A-D82C-4AD2-9BA3-705420A7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906F-D348-434C-806A-6EEE31D7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35AA-A7DA-4D9D-8737-3DE98684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9D1F-4894-4B31-ACA5-F8B14C80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94F-0AD7-4DFB-BBC2-CE560FCE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3834-06A5-442F-BE82-3A9055A6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D543F-12B3-4609-8B27-3640B898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A18A-38C0-426C-965E-1C731E89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53DE-6DB5-4E74-9EF4-CA216727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6183-1A37-4193-A347-2E859C0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5EAE7-54B2-4097-9660-DBB937E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DCAE-676B-4DA9-9295-529A6C4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BE68-D550-447A-AF7B-B139BDBE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4ABB-26CD-4F23-A47E-59DEECA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B91F-65EB-4471-94B6-ED7C7E5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3FE-CFF8-47A6-9591-7A8984BC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17B4-7848-4980-B3A7-767F7E91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8E36-70CE-44AF-9D2E-70FA4F6C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96C8-D765-45DF-A48B-8916206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B6F8-5171-457E-9AD1-BA27D89E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2B7B-D0CF-4D16-887E-62865B2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60C6-C965-480A-B451-405753A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7ADC-2BAB-489F-A00C-CDF379D8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1C43-0885-4CC0-9C21-D91ADE5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7964E-D427-483F-9F70-8657383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32EC-C560-498C-B2C2-B616A1E4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F52-B730-4F6C-AFD6-DDA5B9B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93B0-C9C0-4E74-BFA3-227779F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EF4B-9185-4C6C-87FC-C9E79104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8873-3454-4875-B56B-3807C297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01FA-0B21-4BD1-9724-A1455A21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45BE8-61DA-4687-BF2B-34B4479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6AC8-4728-4EA1-9DCF-24378F2C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A6DA-A3F7-4C9F-A456-1223584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3A10-D54E-4B6B-A539-AAA3597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BD67-26D4-4D2D-8E24-652BB48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98C58-4AF0-4D2D-8D52-4AA7259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5D4-979E-4408-A240-33F7B38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DA435-4F8C-469F-B7AC-A8B4B4B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80CE-F889-4221-B103-E8C86B5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AAB8-FBA0-4E87-B1C2-4A7EC09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A928-24B1-4CCC-855F-67937D54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C70E-89E1-4083-8CF9-DE2D6823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90892-F24E-4CD1-95B7-DD2E7666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BB79-D5AC-4FBE-A346-0BABA7D6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24D7-5328-4838-8EC2-7653340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DDFAA-6005-4F19-BB94-1D1DC79D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4329-6B5A-4436-8852-E4BC9FE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F1D-C746-460B-A914-260E22D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04E49-F51C-4D00-973B-D2EF755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1CFB-5BE6-4DE5-B8A5-FDEAAA2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A905-ECE8-4C40-A51A-2F912B2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4004-03A9-4118-B95A-2DB8607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3780-5DB9-4225-8CA0-33BFAC9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5527-7E4C-45A2-B4D6-AF8CD55D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79DE-48F6-4870-B3CD-C41C22E0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849F-5EEC-41DB-95B8-24EA98F3547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950-3FDA-436E-909F-910BAEF6963A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A3C-3975-4EE2-93E5-625852BC364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ED0-6B70-442F-B90A-9D7EC245FCE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F17-DF32-432D-BCF6-65EC8C0E35D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196D-B08F-48F6-A3EA-A0E74C99E82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56E7-34BA-452F-B678-37DD9C62B0A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924-F617-45C6-9243-26529CC74AAA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crosoft.com/Education/en-us/teachers/plans/Pages/index.asp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ctivities 2 &amp;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soft provides a variety of lesson plans available for teac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Lesson plans for 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evaluated three plans using the TIP check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ons were technology depen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ative advantag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mod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e resources avail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manipulate the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88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ons had clear objectives for the stu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 match between objectives and assess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s were well desig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sy to make lessons individual or group ba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frames were well establ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chnology enhances student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need to create our own strategies based on our class composi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s of equipment and software needed were well outli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frame for technology was cl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ources are commonly avail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mplates are provided for the software needed to complete the les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ould print hard copies for a back-up pl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clear in the lesson how to protect students privacy and safe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is no evidence that the lesson plans have been field tested and revi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5:41:03Z</dcterms:created>
  <dc:creator>ladmin</dc:creator>
  <dc:description/>
  <dc:language>en-US</dc:language>
  <cp:lastModifiedBy>Mike</cp:lastModifiedBy>
  <dcterms:modified xsi:type="dcterms:W3CDTF">2012-07-19T20:09:39Z</dcterms:modified>
  <cp:revision>2</cp:revision>
  <dc:subject/>
  <dc:title>Chapter 7</dc:title>
</cp:coreProperties>
</file>